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BD29-9189-4B65-9D79-3D9A6883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9FD1-B122-48BF-90C6-D5060DAC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0DFE-5BEE-4A57-93BF-78E325D1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B22E-6C66-49DB-B1C4-F6AF98491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AAAA-4D99-4097-B5A6-23F96F02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171F-341B-427B-8E8E-B3D0EDF0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43A1-5591-4C63-B08B-B99F8B98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B875-EC04-4548-A4F8-0734A162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807C-2E0D-4C2D-BE87-4DEEAC01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3EE0-49DE-4D29-A66A-18B09587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C530-449A-4C59-B168-747D023D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5C16-EC93-4976-8B4C-884D5094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768A-219A-481C-A0FC-DB2FE7F8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368C-503E-416D-9C72-93AE2289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6D63-CE82-418F-9880-F5F0391F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985F-4330-4A65-9484-D54C8136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13AC-3199-438B-8E47-3EBB3472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22DB-A7FD-46FD-9E52-07959442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6F26-165D-4CC9-9740-85C10920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978F-74FE-47A7-A875-DB2EFABD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5A65-2D9A-4788-8A54-52430986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C9A1-4BB4-4D1D-B9C5-E5C0B402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CEC4-E2B1-4196-9D13-8DB8D19E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01CC-0F33-47E8-9803-BD5F5295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A490-2C4F-4143-8FB7-37B1D3DC37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443D-5BA5-451D-A1E6-51544A2882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es Government Work?</a:t>
            </a:r>
            <a:br>
              <a:rPr sz="44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valuating Programs and Polici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atherine C. Naff, Ph.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nuary 22, 200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SSS-TRIO pro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391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help “at risk”* students to stay in college until they earn their Bachelor’s deg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ctiviti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ientation, tutoring, skills workshops, mandatory advising, guaranteed registration in remedial classes, financial a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72240" y="6093000"/>
            <a:ext cx="641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low income, first generation college, or individual with dis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am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gaging students in this set of activities will increase the likelihood that they will graduate with a Bachelor’s degree, and that degree will enable them to “participate more fully in America’s economic and social lif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come Line*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121896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2209680"/>
            <a:ext cx="114300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2286000"/>
            <a:ext cx="114300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3962520"/>
            <a:ext cx="1752840" cy="1218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obj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3962520"/>
            <a:ext cx="1752480" cy="1218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obj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3962520"/>
            <a:ext cx="1447560" cy="11430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c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0280" y="3809880"/>
            <a:ext cx="1676520" cy="14479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ltim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“happines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327672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27672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32767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09680" y="4572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4495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940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8760" y="6172200"/>
            <a:ext cx="32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As described by Lawrence Mo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SS-TRIO Outcome 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828800"/>
            <a:ext cx="1676520" cy="990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1828800"/>
            <a:ext cx="1828800" cy="990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1828800"/>
            <a:ext cx="1905120" cy="1066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Skil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h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200400"/>
            <a:ext cx="205740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3200400"/>
            <a:ext cx="221004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gras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3276720"/>
            <a:ext cx="18288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ha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5334120"/>
            <a:ext cx="1905120" cy="761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 Gr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5029200"/>
            <a:ext cx="2286000" cy="12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4876920"/>
            <a:ext cx="1447920" cy="14475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91520" y="4724280"/>
            <a:ext cx="1752480" cy="16765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icip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28954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77120" y="2971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14600" y="3657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86400" y="3657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077320" y="3581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458200" y="3581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360" y="44197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4419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33720" y="5638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5288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1028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 SSS-TRIO achieving its purpos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2666520"/>
            <a:ext cx="78483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rocess evalu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Is the program being implemented as inten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Outcome (impact) evalu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Is the program achieving specified outcom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ss Meas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# of students who attended ori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# of students who received tuto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# of students who participated in worksho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come meas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bobjectiv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% of program students who maintained GPA of 2.0 or better each y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% of program students with GPAs under 3.0 who increased their GPAs by .2 after 4 semes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% of program students retained each y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come of inter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% of program students who grad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cted Outcom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inimum of 80% of participants will maintain a GPA of 2.0 or better each ye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5% of program participants with GPA’s under 3.0 will increase their GPAs by .2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inimum of 65% of program participants will be retained each ye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inimum of 45% of participants will graduate each ye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antifying Program Impa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81916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 Impact = Results – Counterfactu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nterfactual = Estimate of what resul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ould have bee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f program had not been implem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SSS-T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2971800"/>
            <a:ext cx="7925040" cy="31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 Impact = 45% graduation rate - 25% gradu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 Impact = increase in graduation rate by 20 percentag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icies Often Respond to Problem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hand smoke harms people’s heal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ople are living in poverty because they don’t have the education required for a jo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ties are plagued by jobless gang members and “antisocial youth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imating the counterfactu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ev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wthorne eff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gro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b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s resulting from knowledge about other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we addressing the “right” probl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there other intervening variabl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there alternative explanation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the program theory, as specified in the outcome line, corr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ining Linkages (formative evaluatio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2743200"/>
            <a:ext cx="1447920" cy="990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ha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2819520"/>
            <a:ext cx="2133720" cy="10666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d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4495680"/>
            <a:ext cx="1447560" cy="990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4343400"/>
            <a:ext cx="2133720" cy="10666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d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81280" y="4419720"/>
            <a:ext cx="175284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ha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90920" y="49528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05520" y="320040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3124080"/>
            <a:ext cx="3049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3124080"/>
            <a:ext cx="0" cy="3812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86400" y="4800600"/>
            <a:ext cx="3049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91320" y="4800600"/>
            <a:ext cx="0" cy="304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does evaluation compare to other forms of research?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th requ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gorous desig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 techniques for data collection and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for issues of valid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etence and obj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does evaluation compare to other forms of research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aluatio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 “real world” con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place in a political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al with the march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faces data and other resource constra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supposed to improve programs as well as assess their outcom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ing 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s are intended to achieve policy objectives, often to solve a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 measurement tells us if we are getting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 evaluation tells us if the program is giving us thos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uators must consider issues that might undermine our conclu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 evaluation is rigorous research in a real world set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llent Sour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 Eval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wrence Mohr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mpact Analysis for Program Evalu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dition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ol Weis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valu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dition, 199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even Isaac and William B. Michae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andbook in Research and Evalu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dition, 199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 Measur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ry Hatry, et al. Urban Institute P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 Accounting Office (www.gao.gov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ams developed to achieve policy 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ve: Reduce second-hand smo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: Smoking cessation progra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ve: Ensure all have access to edu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: Provide support to college students at risk for dropping 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ve: Help prepare gang members and antisocial youth for jo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: Finance tattoo remo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overnment Performance and Results Act (GPRA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s federal agencies 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strategic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e performance toward achieving thos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ly report on their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PRA is 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898560" y="1870200"/>
            <a:ext cx="7788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 congressional decisionmaking by providing more objective information on achieving statutory objectives, and on the relative effectiveness and efficiency of federal programs and spending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the defining question: “Do the programs contribute to a real difference in the quality and security of  citizens’ lives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ft focus from preoccupation with staffing and activity levels to a broader 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co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federal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ource: David Walk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raditional performance meas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2017800"/>
            <a:ext cx="7735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money spent to support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staff employ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tasks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41148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06920" y="4648320"/>
            <a:ext cx="49154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GPRA measures</a:t>
            </a:r>
            <a:br>
              <a:rPr sz="3600"/>
            </a:b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comes or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OSH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or “Output”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pect 2000 plants this y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com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 workplace injuries by 2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Welfare Refor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or Outpu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roll 50 percent of welfare recipients in training 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com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% of welfare recipients are in full-time jo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formance Measurement vs. Program Evalu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erformance measur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sks, “Are we achieving the goals we set, as shown by measurable outcomes?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rogram evalu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sks, “Is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sponsible for the measurable outcomes we observe?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9T23:03:55Z</dcterms:created>
  <dc:creator>Katherine C. Naff</dc:creator>
  <dc:description/>
  <dc:language>en-US</dc:language>
  <cp:lastModifiedBy>Katherine C. Naff</cp:lastModifiedBy>
  <dcterms:modified xsi:type="dcterms:W3CDTF">2002-09-04T02:39:47Z</dcterms:modified>
  <cp:revision>13</cp:revision>
  <dc:subject/>
  <dc:title>Does Government Work? Evaluating Programs and Policies</dc:title>
</cp:coreProperties>
</file>